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B434-0BF4-4D68-B259-D0500EF1A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pulation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ccur in gene pools due to mutation, natural selection, genetic drift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changes cause more VARIATION in individuals in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Bacteria becoming unaffected by antibiotics (resis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describe a non-evolving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uffling of alleles by meiosis and random fertilization have no effect on the overall gene pool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populations are NOT expected to actually be in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tion from Hardy-Weinberg equilibrium usually results i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a non-evolving population, helps us to understand how evolution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population 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small populations have fluctuations in allele frequencies (e.g., fire, stor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mmigrants can change the frequency of an allele by bringing in new alleles to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t mut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alleles change from one to another, this will change the frequency of thos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Assumptions of the H-W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certain traits are more desirable, then individuals with those traits will be selected and this will not allow for random mixing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if some individuals survive and reproduce at a higher rate than others, then their offspring will carry those genes and the frequency will change for the next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ts Selected for 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gene pool of a NON-EVOLVING population remains CONSTANT over multiple generations (allele frequency doesn’t chan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ardy-Weinberg Equation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0 = p2 + 2pq + q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pq = frequency of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2 = frequency of aa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the Allele Frequency using Hardy-Weinberg: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       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= p +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frequency of a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Define Gene P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re are 1000 copies of the genes for colo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 frequencies are (in both males and female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x 2 (RR) + 160 x 1 (Rr) = 800 R;  800/1000 = 0.8 (8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x 1 (Rr) + 20 x 2 (rr) = 200 r; 200/1000 = 0.2 (20%)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flowering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0 r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white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a species can interbreed &amp; produce fert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have a shared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pool – all of the alleles of all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croevolution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e change in the gene pool of a small population due to ch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uccess in reproduction based on heritable traits results in selected alleles being passed to relatively more offspring (Darwinian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use ADAPTATION of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s genetic exchange due to the migration of fertile individuals or gametes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Micr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nge in an organism’s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n be transmitted in gametes to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andom 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tes are chosen on the basis of the best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Cause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rastic reduction in population (volcanoes, earthquakes, landslides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r population may not be able to adapt to new selection press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a new colony is started by a few members of the original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lead to speci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have little genetic variation in their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probably be attributed to a population bottleneck they experienced around 10,000 years ago, barely avoiding extinction at the end of the last ice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do NOT exchange genes by interbr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pecies that interbreed often produce sterile or less viable offspring e.g. 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r’s Eff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dividuals at one end of the phenotypic ran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during times of environmental change or when moving to new habita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extreme over intermediat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environmental change favors an extreme phenoty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intermediate over extreme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variation and maintains the cureent a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Human birth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riations i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 Vari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a species due to climate or another geographical cond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live in different loc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Finches of Galapagos Islands &amp; South Amer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e same species living in an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wo individuals are exactly alike (vari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it individuals survive &amp; pass on their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vors heterozygotes (A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intains both alleles (A,a) instead of removing less successful alleles from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em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omozygotes exhibit severe anemia, have abnormal blood cell shape, and usually die before reproductiv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gt; Heterozygotes are less susceptible to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ckle Cell and Mal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ources of Var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able environments, mutations often result in little or no benefit to an organism, or are often harmfu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more beneficial (rare) in changing environments  (Example:  HIV resistance to antiviral drug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Recombi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of most genetic differences between individuals 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Often occurs between parasite &amp; host and flowers &amp; their pollina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 may split into 2 or more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es may evolve into a new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very long period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dern Evolutionary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s Darwinian selection and Mendelia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s - study of genetic variation with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s on quantitative characters (height, size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s – comprehensive theory of evolution (Modern Synthesis The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d by Fisher &amp;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n, many did not accept that Darwin’s theory of natural selection could dr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i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Synthesis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theory on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GENES are responsible for the inheritance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POPULATIONS, not individuals, evolve due to natural selection &amp;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es that SPECIATION usually is due to the gradual accumulation of small genetic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860-B06F-4A37-A32D-E6D5C889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05D-9368-45F6-9B46-65F6A855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EBCAB-3342-4F9A-B255-94D5F036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2FD75-345B-409B-A980-05049A77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8762E-045C-425B-97C6-40F234E2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765F2-796D-4477-86EB-F9230F75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B3CC9-AEE9-4689-93F6-E2265834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6400-FD43-4D67-BCE7-A77F7A33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8BF4A-ABAD-41AD-87D0-8524C6C9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BA7E7-0837-4710-8513-34E3ACBC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7C712-6DBD-4CEC-BDA6-03B5E2E3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6B4E8-DDBB-4EDC-9FAF-63874A00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6DD-7475-4A5D-BA86-AC0A3D7B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4DFAF-BAC3-4B52-9D51-FDECC62F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99550-A248-4D57-96E1-9613AB0B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9B54D-5659-49A8-865F-6C675809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19DDA-8BA5-41A5-AF1C-00D676BF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45A05-C587-4558-BC1E-DBDF38B6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F438C-698C-4C10-B19D-1777C707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4CA3D-7D9D-431F-B173-CF1438CB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C5CD4-7D50-443F-A7C2-CD4950C1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6AFCE-6426-4500-A123-974DD09D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CF57D-9E0B-45FF-87E7-3F9337F8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385-452A-4C43-ABD9-2D22D8FB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F4427-F91A-4F2D-9F62-C18BBA4B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BF90-19E7-434A-95B3-C3DC879F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5E79-FA4A-4132-AE79-720AA87D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D110-1670-4096-AC25-E6234F29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FB01-0434-419F-B878-A90BC803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C8C4-26F9-470D-9304-D0367DD0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10AE-4CE5-49BA-BE14-6767AFFC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C6B3-8194-4A5A-83A5-3C199731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D4D-CF78-4ABC-9FA5-97AC3C3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F6A2-D371-49EE-A4B2-5302A41B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7C98-BAFD-4EB8-B24F-6A399A38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55C5-9C8E-4E08-AD79-20A88751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F130-5C85-4F34-A69D-52B602DF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A6FC-CA76-488A-9901-C4E627D5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D67A1-5600-4EE7-9182-4DB9D25C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95C5-993F-4A72-BD5B-20B47B33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1559A-CF1E-4220-90EE-4280B5B0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C037-ED19-495A-9811-C4688FFD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E134-4AE5-4751-92E9-37E28B97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AE0-0074-467A-993D-90687C6F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2E3B9-D682-4B8A-9CD7-D75B6213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6D89-8358-4985-A4FD-C6D3D3D0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7805A-AB31-4DB6-9340-97A6871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7EB6-74DE-4FA4-B6BC-4ED5D633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068E-0797-48A1-842F-BE28E5F9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1A03-246F-4A5A-81C6-6262A8BB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1388-ADF3-4DC2-B6E0-1A41551B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5BBF-4F69-473C-8040-93EB3CC9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4B521-3A33-4B3C-A9DB-BE4AADF3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E1033-2EE4-48CE-9E94-9878C437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521-7672-4214-95D0-871B464F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E6BD-B2DB-4015-852C-22E15C3C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1E926-B79F-4B93-8E22-453254B3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BDEA-5F8C-4F12-A952-9A07C0DA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D15BD-2B30-47B3-8509-4157878B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BD1E-8BA5-4742-AFBF-60AC2E88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56EF-9955-4063-AE5C-85D157A0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9D391-CEE7-4DC9-99B4-1F0E6802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1CDD-0FA8-45E3-8C91-8DB80D6D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960D5-172C-4713-BCBC-08047C1C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A2A53-F806-4B62-95CD-184E379D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7121-B327-4158-A85F-41314C4E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AFDB8-EA08-4B3F-B1E8-7786E0E1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374C9-DF66-4F97-822A-34004B38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6154E-C67D-48A2-8E5D-3435C3E4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31EF5-F91C-48F4-9D59-BB933384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BB3ED-9FCD-424A-B307-68E1F822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05DA0-6ADA-430E-BFB2-8B3417B0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EAF85-EDBF-43B5-9D99-FA119D54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218DD-ACBE-4504-B00E-67F223B9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66167-2001-4555-884F-EB9F0F2E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2E29D-3FC3-4D4A-9F2A-8000DEEF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3F6-25AA-48B4-8DB7-17F749F4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FBF9D-E1B5-44A7-ACEF-759C6880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7E0A-935F-4B41-8F23-0880C889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B6BF8-87C1-4F01-8684-23DE834C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6E0EF-1BCB-476B-B6CE-E53011E5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8F9AB-3AFA-42C1-837C-926F384C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A374E-8582-4A91-B02A-8EB86D2C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D3BF0-C425-492C-AAF9-4C1065E8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EE2B6-8072-4BD4-AE6C-FA4B2106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04F1B-8E8E-4B9F-B396-24095EA4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767C4-26A1-404B-B9C0-A4C7D542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C600-8D76-442D-BD36-E5B4EF06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56346-A0A9-45B5-A6A6-9574BA1B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1082C-1786-4D57-9F91-66D80095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9965B-C366-4762-91FE-81A40565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32EF0-BC15-4C97-9C9A-3BEEA0A9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22B6D-43D6-4A81-8ADC-D9242845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845E7-B9F5-42AA-83C3-E95D639A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7F381-64E0-44DF-8592-A782ED6F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36E50-C447-42B8-9245-AB04F089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AD3C2-1B9E-4CAD-A9C3-E9849189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F3EDB-4C73-4515-A1D3-ECEDF65E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A54-5362-4306-B819-64FEF434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F6FD0-7549-4470-A98E-6BF241E4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76233-8F48-4732-B56B-0F33B304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B90BA-238D-4715-8566-D28FFA0F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AB281-FA9B-4F4C-BE8D-646D169B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52C23-51D1-4D44-954C-2B71A59D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11CCF-E73A-44E8-A336-301455DC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A8329-31B4-48DA-AFE1-7B329E27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BDC50-BB08-4D34-88D3-0647989C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9A9D4-23FC-4015-A60E-D69A95E4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4E3CE-1BC6-4B30-9739-6EA42195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590-F84A-4E2F-876D-178DE7E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5136A-CB14-4BBE-A0A7-F53FC4FA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6DFCE-0FD4-4760-9250-273A284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B677A-C55B-42EA-919E-78F0AE55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ECF2E-F9DB-448D-B2DA-04C5D20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28600" y="3654000"/>
            <a:ext cx="8686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5F81F-13E3-42E1-93C0-C0AB333A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2286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0000" y="3654000"/>
            <a:ext cx="4239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4E57F-E47E-4ABE-BDEB-347956E8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22860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6584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102720" y="3654000"/>
            <a:ext cx="27968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6532C-2B2B-41A9-8384-2B9ED4AE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D882E-5CC9-430E-AEF5-484AE4F7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6890C-82AF-4F57-BE54-08F58112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9B666-2BD0-466B-B498-A8C5FC8C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E6F6-78FB-45CC-9F6D-1183F5B918F9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F38E-64A9-4F50-A43E-07BE2E1357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D81D-BEC1-4BBA-9F27-D1D88327EC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9F22-72DF-45A5-93A0-B2B92BD7FA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2DAF-EC97-467E-85FB-0E6D55134FA6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4BFC-1447-4142-A64D-7A37780B9FA7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C9AE-0CDA-41F9-9893-BE503D5BF9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E67C-E92B-4918-A6D5-4151ED5ECB0E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AD93-4F2E-456D-A229-6241349939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C375-CD85-4649-B368-3C5E89640F76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6A67-6CDE-47C3-894E-C56B809301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-36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2DA0-B0D1-4637-9C1A-9D01711C39E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8C44-77D9-4584-9ADD-BD58178266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4977-4468-436A-B030-A5025FA826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27B7-9A29-4718-A029-F8B18CC535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9D46-4B2E-4322-8D26-D5FA276179D6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C864-EEDB-42AF-85E1-7E2E37D117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E0B5-A950-43A4-84D9-096B8E1E1F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DC2C-DA57-4FB2-A90F-BBE5FFD6F607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46F9-0364-4FD9-8888-3FB11979F8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B40F-D35D-4AF2-B2CA-D0BC9FDC78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D31D-B11B-4F63-A002-51AEDC8E9A2C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2B0A-B455-4CB0-AB29-41FD1A3634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8484120" y="640080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D096-00A7-4956-8BC7-938974806D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2D9E-536A-4361-9259-4EB529536721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23-00-She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 rot="21556800">
            <a:off x="2146320" y="2009520"/>
            <a:ext cx="4651200" cy="2062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Comic Sans MS"/>
              </a:rPr>
              <a:t>Population Genetics</a:t>
            </a:r>
            <a:endParaRPr b="1" i="1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16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Microevolu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hanges occur in gene poo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ue to mutation, natural selection, genetic drift, etc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ene pool changes cause mor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VARIATION in individual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 the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ICRO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Bacteri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becoming unaffected by antibiotic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resistant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ardy-Weinberg Principle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sed to describ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evolving popula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uffling of allele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by meiosis and random fertilization hav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effec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on the overall gene pool. 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population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are NOT expected to actually be in Hardy-Weinberg equilibrium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715000"/>
            <a:ext cx="853452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Deviatio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from Hardy-Weinberg equilibrium usuall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esults in evolu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nderstanding a non-evolving population, helps us to understand how evolution occu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arge population size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- small populations have fluctuations in allele frequencies (e.g., fire, storm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migra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immigrants can change the frequency of an allele by bringing in new alleles to a popul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et mutations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alleles change from one to another, this will change the frequency of those alle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5 Assumptions of the H-W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Random mating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certain traits are more desirable, then individuals with those traits will be selected and this will not allow for random mixing of allele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 natural selection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 if some individuals survive and reproduce at a higher rate than others, then their offspring will carry those genes and the frequency will change for the next generation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raits Selected for Random Mating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87" name="Picture 1026" descr="23-16x1-SexualDimorphism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 gene pool of a NON-EVOLVING population remains CONSTANT over multiple generations (allele frequency doesn’t chang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he Hardy-Weinberg Equation: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1.0 = p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+ 2pq + q</a:t>
            </a:r>
            <a:r>
              <a:rPr b="1" i="1" lang="en-US" sz="32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2pq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2800" spc="-1" strike="noStrike" baseline="30000">
                <a:solidFill>
                  <a:srgbClr val="cc0000"/>
                </a:solidFill>
                <a:latin typeface="Comic Sans MS"/>
                <a:ea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a genotyp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The Hardy-Weinberg Principle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termining the Allele Frequency using Hardy-Weinberg: 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              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  <a:ea typeface="Arial"/>
              </a:rPr>
              <a:t>1.0 = p + q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Wher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q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frequency of a alle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Allele Frequencies Define Gene Po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533520" y="335268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 there are 1000 copies of the genes for color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llele frequencies are (in both males and females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320 x 2 (RR) + 160 x 1 (Rr) = 800 R;  800/1000 = 0.8 (8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x 1 (Rr) + 20 x 2 (rr) = 200 r; 200/1000 = 0.2 (20%)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838080" y="9907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00 flowering pla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2193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80 red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191120" y="1828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white flo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8380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26668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472428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0 r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Line 10"/>
          <p:cNvSpPr/>
          <p:nvPr/>
        </p:nvSpPr>
        <p:spPr>
          <a:xfrm flipH="1">
            <a:off x="3657600" y="14479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4267080" y="14479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Line 12"/>
          <p:cNvSpPr/>
          <p:nvPr/>
        </p:nvSpPr>
        <p:spPr>
          <a:xfrm flipH="1">
            <a:off x="1980720" y="236232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2590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876920" y="23623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200" y="15192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embers of a species can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interbreed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&amp; produce</a:t>
            </a:r>
            <a:r>
              <a:rPr b="1" i="1" lang="en-US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ertile offspr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pecies have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hared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pool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– all of the alleles of all individuals in a popu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7" name="Picture 17" descr="gene_pool_sm"/>
          <p:cNvPicPr/>
          <p:nvPr/>
        </p:nvPicPr>
        <p:blipFill>
          <a:blip r:embed="rId1"/>
          <a:stretch/>
        </p:blipFill>
        <p:spPr>
          <a:xfrm>
            <a:off x="5638680" y="1066680"/>
            <a:ext cx="2959200" cy="495324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050" descr="23-03a-HardyWeinberg-L"/>
          <p:cNvPicPr/>
          <p:nvPr/>
        </p:nvPicPr>
        <p:blipFill>
          <a:blip r:embed="rId1"/>
          <a:stretch/>
        </p:blipFill>
        <p:spPr>
          <a:xfrm>
            <a:off x="914400" y="210960"/>
            <a:ext cx="7315200" cy="643608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50" descr="23-03b-HardyWeinberg-L"/>
          <p:cNvPicPr/>
          <p:nvPr/>
        </p:nvPicPr>
        <p:blipFill>
          <a:blip r:embed="rId1"/>
          <a:stretch/>
        </p:blipFill>
        <p:spPr>
          <a:xfrm>
            <a:off x="914400" y="230040"/>
            <a:ext cx="7238880" cy="6330960"/>
          </a:xfrm>
          <a:prstGeom prst="rect">
            <a:avLst/>
          </a:prstGeom>
          <a:ln w="0">
            <a:noFill/>
          </a:ln>
        </p:spPr>
      </p:pic>
      <p:sp>
        <p:nvSpPr>
          <p:cNvPr id="51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icroevolution of Specie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44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the change in the gene pool of a small population due to chanc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atural Selection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-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uccess in reproduction based on heritable traits results in selected alleles being passed to relatively more offspring (Darwinian inheritanc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Cause ADAPTATION of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Gene F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83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is genetic exchange due to the migration of fertile individuals or gametes between population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auses of Micr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8544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 change in an organism’s DN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can be transmitted in gametes to offspring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n-random ma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Mates are chosen on the basis of the best trai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rcRect l="0" t="0" r="0" b="14360"/>
          <a:stretch/>
        </p:blipFill>
        <p:spPr>
          <a:xfrm>
            <a:off x="3124080" y="4191120"/>
            <a:ext cx="4442040" cy="2361960"/>
          </a:xfrm>
          <a:prstGeom prst="rect">
            <a:avLst/>
          </a:prstGeom>
          <a:ln w="0">
            <a:noFill/>
          </a:ln>
        </p:spPr>
      </p:pic>
      <p:sp>
        <p:nvSpPr>
          <p:cNvPr id="52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Genetic Drif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60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Factors that Cause Genetic Drift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990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Bottleneck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drastic reduction in population (volcanoes, earthquakes, landslides …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maller population may not be able to adapt to new selection pressur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under Eff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occurs when a new colony is started by a few members of the original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d genetic vari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325800">
              <a:spcBef>
                <a:spcPts val="499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y lead to speciation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20600" y="533520"/>
            <a:ext cx="8910720" cy="579096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24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Loss of Genetic Varia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Cheetah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have little genetic variation in their gene poo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is can probably be attributed to a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population bottleneck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hey experienced around 10,000 years ago, barely avoiding extinction at the end of the last ice ag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052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56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The Gene Pool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do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NOT exchange gene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y interbreed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Different species that interbreed often produc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erile or less viable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ffspring e.g. Mul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1" name="Picture 9" descr="mule"/>
          <p:cNvPicPr/>
          <p:nvPr/>
        </p:nvPicPr>
        <p:blipFill>
          <a:blip r:embed="rId1"/>
          <a:stretch/>
        </p:blipFill>
        <p:spPr>
          <a:xfrm>
            <a:off x="5059440" y="1066680"/>
            <a:ext cx="3443040" cy="495324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Comic Sans MS"/>
              </a:rPr>
              <a:t>Founder’s Effect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rcRect l="0" t="23158" r="0" b="0"/>
          <a:stretch/>
        </p:blipFill>
        <p:spPr>
          <a:xfrm>
            <a:off x="103320" y="1600200"/>
            <a:ext cx="9040680" cy="426708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s of Natural Selection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rectional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individuals at one end of the phenotypic ran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ost common during times of environmental change or when moving to new habita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200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Disruptive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avors extreme over intermediat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1500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Occurs when environmental change favors an extreme phenotyp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23-13-DirectionalSelect-L"/>
          <p:cNvPicPr/>
          <p:nvPr/>
        </p:nvPicPr>
        <p:blipFill>
          <a:blip r:embed="rId1"/>
          <a:stretch/>
        </p:blipFill>
        <p:spPr>
          <a:xfrm>
            <a:off x="457200" y="271440"/>
            <a:ext cx="8229600" cy="63151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800600" y="985680"/>
            <a:ext cx="35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Directional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26" descr="23-14-DiversifyingSelect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027"/>
          <p:cNvSpPr/>
          <p:nvPr/>
        </p:nvSpPr>
        <p:spPr>
          <a:xfrm>
            <a:off x="1143000" y="45072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Disruptive Selecti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s of Natural Selec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tabilizing Selec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avors intermediate over extreme phenotyp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duces variation and maintains the cureent averag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xample: Human birth weigh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534200" cy="30225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026" descr="23-12-ModesOfSelection-L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95120" y="449532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Variations in Populations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00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Geographic Variations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440" y="1371600"/>
            <a:ext cx="4762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Variation in a species due to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climate or another geographical condi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opulations live i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ifferent loc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Example: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inches of Galapagos Islands &amp; South Americ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5448240" y="1346040"/>
            <a:ext cx="3162240" cy="464832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3-08-PlantClinalVariat-L"/>
          <p:cNvPicPr/>
          <p:nvPr/>
        </p:nvPicPr>
        <p:blipFill>
          <a:blip r:embed="rId1"/>
          <a:stretch/>
        </p:blipFill>
        <p:spPr>
          <a:xfrm>
            <a:off x="0" y="257040"/>
            <a:ext cx="9144000" cy="634392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4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Populations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group of th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ame species living in an are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 two individuals are exactly alik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(variation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re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dividuals survive &amp; pass on their trai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5" name="Picture 6" descr="Deer_Fighting_"/>
          <p:cNvPicPr/>
          <p:nvPr/>
        </p:nvPicPr>
        <p:blipFill>
          <a:blip r:embed="rId1"/>
          <a:stretch/>
        </p:blipFill>
        <p:spPr>
          <a:xfrm>
            <a:off x="4648320" y="2103480"/>
            <a:ext cx="4267080" cy="2879640"/>
          </a:xfrm>
          <a:prstGeom prst="rect">
            <a:avLst/>
          </a:prstGeom>
          <a:ln w="0">
            <a:noFill/>
          </a:ln>
        </p:spPr>
      </p:pic>
      <p:sp>
        <p:nvSpPr>
          <p:cNvPr id="44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Heterozygote Advantage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avor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heterozygotes (A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aintains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 both alleles (A,a)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stead of removing less successful alleles from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ickle cell anem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omozygotes exhibit severe anemia, have abnormal blood cell shape, and usually die before reproductive age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&gt; Heterozygotes are less susceptible to malari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Sickle Cell and Malaria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6" name="Picture 3" descr="21_13"/>
          <p:cNvPicPr/>
          <p:nvPr/>
        </p:nvPicPr>
        <p:blipFill>
          <a:blip r:embed="rId1"/>
          <a:srcRect l="0" t="2496" r="0" b="0"/>
          <a:stretch/>
        </p:blipFill>
        <p:spPr>
          <a:xfrm>
            <a:off x="914400" y="1066680"/>
            <a:ext cx="7315200" cy="5349960"/>
          </a:xfrm>
          <a:prstGeom prst="rect">
            <a:avLst/>
          </a:prstGeom>
          <a:ln w="0">
            <a:noFill/>
          </a:ln>
        </p:spPr>
      </p:pic>
      <p:sp>
        <p:nvSpPr>
          <p:cNvPr id="5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23-10-MappingMalaria-L"/>
          <p:cNvPicPr/>
          <p:nvPr/>
        </p:nvPicPr>
        <p:blipFill>
          <a:blip r:embed="rId1"/>
          <a:stretch/>
        </p:blipFill>
        <p:spPr>
          <a:xfrm>
            <a:off x="990720" y="168120"/>
            <a:ext cx="7162560" cy="65217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Other Sources of Variation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228600" y="7617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ut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n stable environments, mutations often result in little or no benefit to an organism, or are often harmfu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utations are more beneficial (rare) in changing environments  (Example:  HIV resistance to antiviral drug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Genetic Recombina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urce of most genetic differences between individuals in a populatio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51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c0000"/>
                </a:solidFill>
                <a:latin typeface="Comic Sans MS"/>
                <a:ea typeface="Arial"/>
              </a:rPr>
              <a:t>Co-evolution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Often occurs between parasite &amp; host and flowers &amp; their pollinato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574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854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36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Coevolution</a:t>
            </a:r>
            <a:endParaRPr b="1" i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rcRect l="2247" t="1749" r="0" b="4818"/>
          <a:stretch/>
        </p:blipFill>
        <p:spPr>
          <a:xfrm>
            <a:off x="0" y="1219320"/>
            <a:ext cx="9144000" cy="533556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Speciation</a:t>
            </a:r>
            <a:endParaRPr b="1" i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Formation of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One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spli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into 2 or more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species ma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evolve into a new speci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quires very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long periods of tim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9" name="Picture 6" descr="speciation"/>
          <p:cNvPicPr/>
          <p:nvPr/>
        </p:nvPicPr>
        <p:blipFill>
          <a:blip r:embed="rId1"/>
          <a:srcRect l="0" t="0" r="0" b="8126"/>
          <a:stretch/>
        </p:blipFill>
        <p:spPr>
          <a:xfrm>
            <a:off x="4648320" y="1220760"/>
            <a:ext cx="4267080" cy="457056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504960" y="4495320"/>
            <a:ext cx="556236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Modern Evolutionary Thought</a:t>
            </a:r>
            <a:endParaRPr b="1" i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bines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Darwinian selection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Mendelian inheritanc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 genetic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- study of genetic variation within a popul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mphasis 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quantitative characters (height, size …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Picture 5" descr="darwinport2"/>
          <p:cNvPicPr/>
          <p:nvPr/>
        </p:nvPicPr>
        <p:blipFill>
          <a:blip r:embed="rId1"/>
          <a:stretch/>
        </p:blipFill>
        <p:spPr>
          <a:xfrm>
            <a:off x="6400800" y="1106640"/>
            <a:ext cx="2362320" cy="3398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mendel"/>
          <p:cNvPicPr/>
          <p:nvPr/>
        </p:nvPicPr>
        <p:blipFill>
          <a:blip r:embed="rId2"/>
          <a:stretch/>
        </p:blipFill>
        <p:spPr>
          <a:xfrm>
            <a:off x="4419720" y="2895480"/>
            <a:ext cx="2527200" cy="32943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84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940s – comprehensive theory of evolution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(Modern Synthesis Theory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ntroduced by Fisher &amp; Wrigh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Until the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many did not accept that Darwin’s theory of natural selection could drive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0" name="Picture 4" descr="fisher"/>
          <p:cNvPicPr/>
          <p:nvPr/>
        </p:nvPicPr>
        <p:blipFill>
          <a:blip r:embed="rId1"/>
          <a:stretch/>
        </p:blipFill>
        <p:spPr>
          <a:xfrm>
            <a:off x="5105520" y="3048120"/>
            <a:ext cx="2011320" cy="32004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wright"/>
          <p:cNvPicPr/>
          <p:nvPr/>
        </p:nvPicPr>
        <p:blipFill>
          <a:blip r:embed="rId2"/>
          <a:stretch/>
        </p:blipFill>
        <p:spPr>
          <a:xfrm>
            <a:off x="6629400" y="1066680"/>
            <a:ext cx="2011320" cy="30290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6"/>
          <p:cNvSpPr/>
          <p:nvPr/>
        </p:nvSpPr>
        <p:spPr>
          <a:xfrm>
            <a:off x="7086600" y="335268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S. W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334120" y="5867280"/>
            <a:ext cx="167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mic Sans MS"/>
              </a:rPr>
              <a:t>A. Fis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764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Modern Synthesis Theory</a:t>
            </a:r>
            <a:endParaRPr b="1" i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cc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ODAY’S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theory on evolu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ENE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are responsible for the inheritance of characteristi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POPULATIONS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, not individuals, evolve due to natural selection &amp; genetic drif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zes that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SPECIATION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usually is due to the </a:t>
            </a: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gradual accumulation of small genetic chang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5:30:09Z</dcterms:created>
  <dc:creator>Valued Gateway Client</dc:creator>
  <dc:description/>
  <dc:language>en-US</dc:language>
  <cp:lastModifiedBy>LEGION</cp:lastModifiedBy>
  <dcterms:modified xsi:type="dcterms:W3CDTF">2016-12-07T12:48:19Z</dcterms:modified>
  <cp:revision>82</cp:revision>
  <dc:subject/>
  <dc:title>PowerPoint Presentation</dc:title>
</cp:coreProperties>
</file>